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ECB7-4259-41B7-B5C7-7107E3E63B3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EAE-B2F4-402D-8A24-AC17F868EEF0}" type="slidenum">
              <a:rPr b="0" lang="en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11D-E419-4326-9B5E-2EEAF3A7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18E-6D3D-4412-B084-E6D9BE76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F07-CA46-4CFC-949E-43558915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D14-46C1-4220-A83D-E3764EDE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BC53-D4C6-466D-B601-28E3C5A9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A9EA-90FA-4DCD-856C-712F3315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9049-73BC-422D-B901-258531AE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418A-DB97-443B-A75C-3CA1A423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DC44-728B-494E-A0E6-414D3C0E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C4B2-2F12-4DE7-8906-0AD18975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50EA-CAE6-4B4B-8E57-4989B64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02B-B549-4DC1-B33D-D224C604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0AC6-9A08-4BB1-AA15-CFBB185E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EE73-1F31-4ADD-8A6B-B7C248EB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7C82-A907-47E8-93EA-C7ECD9FD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80BC-4538-4B81-A86C-41D83675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A747-252A-46D3-A427-757DC856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F790-CC88-4957-98A5-94E57F75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7C83-67BF-42E9-9559-C67B3AE6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78A5-B9B9-442A-B13C-637E766B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6D65-8BFA-4F27-8D17-00A22125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C796-4EB4-4144-8402-2B81D219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CC7-D0D2-4BDB-9401-72B201B2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5526-0B6D-4DC7-9890-02A0C643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D387-FB60-452B-BCB5-A024F739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E7FA-5FD0-43FC-B625-6A1E2080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1928-6ED9-4CD7-A31F-733893D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0951-F8D4-4A12-8322-B6D79A51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48ED-E209-4CD9-A2EA-D5BC8984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C5E6D-4DAD-4E6A-94FD-F665E324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4FFB5-8BF7-4340-A08B-DDFD13B3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C348-0B2D-49CD-88DB-5D776F5E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F730C-9368-4E47-A551-8AD08B1C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596-24A5-4224-BC55-AACA7BC1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C51D-5812-4CDA-84BD-C9D16235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CD1A4-D6B9-4D3B-9536-68EFFD55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5452-710C-40D2-83F2-A516F718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BFEF7-67D5-4654-8323-040D4250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CA884-8E0B-4344-B035-C68E8CF1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17D10-1E23-4468-A7ED-5D59A622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236B-6FAB-4612-9318-286126D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BB66-B4FC-4928-88AB-20DFFB36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E132-150D-40D6-A63F-B197AD5D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16BD-2B9B-4F61-A803-4F595E71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B0C-D3AE-4D44-BBFA-39EBF210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9DE1-B684-4041-AE37-71530C23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42044-D91E-4B8A-ACDD-CAC99169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DECB-0EA8-41CA-A622-5E556DCA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5E9D7-EE58-4ADF-91AB-D5B6238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84F17-E1F6-4EA6-9D98-A14EFBDC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06F22-A735-4B7D-BC55-DC8FB910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EA4B-20D5-4A0E-992F-7F64F76C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92CCB-E682-4FD2-A15E-B205648C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BB6CF-36FE-453B-8E4F-72BC2B63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A93E-E991-4395-8E39-3028FE15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759-FD70-4C26-8E8D-2168CB40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F9842-C2EF-481A-A680-13E873F2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AAD06-073D-4FD5-AA10-C6C683B1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57B19-2384-4292-8898-F3E1B25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3062F-C162-49ED-A167-3559FD4C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42EB7-FBB7-4352-8D42-1DD434DD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A9E26-F326-4169-9CEF-AACF42A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EF8BF-5F51-4EA3-8012-1F95E79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66F4-9374-48B7-9783-631F40DE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679C4-F12D-4DBE-909C-A0FB04AF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E6570-D642-43FE-BA6C-CDB1C4CC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DB1-C7F8-470E-B9AF-2A05B9A0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8983-D698-4C97-B74A-CD962AC4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1B73A-D341-4C93-98CB-15C5CD9D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AAE1-F588-46D1-8AC7-9AA28609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F62-5784-451E-9604-7CCC4399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9CA-A7AF-45A0-ADCA-9ABDFFE9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6F47-0488-47B7-B12C-7E72DAD25A4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8BB5-016E-4715-AC1B-4E3C72B7F78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C20E-02B6-42A9-919A-015142AD5CA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E438-B25A-47E0-A7DA-3C36FF6867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3CD0-7A9C-4F9D-9326-38F67AA5030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0E30-597F-4557-8FED-C93B28BCAF9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alepsy" TargetMode="External"/><Relationship Id="rId2" Type="http://schemas.openxmlformats.org/officeDocument/2006/relationships/hyperlink" Target="http://en.wikipedia.org/wiki/Echolalia" TargetMode="External"/><Relationship Id="rId3" Type="http://schemas.openxmlformats.org/officeDocument/2006/relationships/hyperlink" Target="http://en.wikipedia.org/wiki/Echopraxia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msis.org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6480" y="92160"/>
            <a:ext cx="9485280" cy="2736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1360" y="2928600"/>
            <a:ext cx="7848360" cy="3714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Peter Chan, MD, FRC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iatric and Consult-Liaison Psych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ad of ECT Progra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couver General Hos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Associate Professor, Dept. of Psychiatr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British Columb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8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2-5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ed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pival 875 mg/d, Seroquel 350 mg/d, Clonazepam 2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an’t see”, “Can’t swallow”, more tremor, disorgan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ntipsychotic prn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5072040"/>
          <a:ext cx="6095880" cy="1482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xap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oqu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9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356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5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erseverate: “blood, blood, bloo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hinks food is poiso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cing, Didn’t slee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PK= 18,245 (normal &lt; 23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BC= 12,400 (normal &lt; 11,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= 37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BP = 170/90 (not lab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PR = 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0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the differential diagno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your next step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796752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Case Presentation-11</a:t>
            </a: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: </a:t>
            </a: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Ms. A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356760"/>
            <a:ext cx="8400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5-7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5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nsfer to Acute Medicine Step Down:  N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ntipsychotics sto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6: “lead pipe rigidity”, Dantrol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7: Bromocryptine added, Desat 80% O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ransfer to ICU after code blue (aspiration L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EG:  Mild slowing lef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oponin 0.53 (normal &lt; 0.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857160" y="4572000"/>
          <a:ext cx="7143840" cy="22255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  <a:gridCol w="1785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0-14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2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8-12 (ICU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8: Midazolam drip, no clonazepam, stop Epiv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9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epeat E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Mild diffuse encephalopathy, intermittent slowing ( 1-3 Hz delt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T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Nil acute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v 12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igidity, voluntary component, Rabbit-like jaw tre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hat is the next step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4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60360" indent="-3290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12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T ECT initiated in ICU (rocuronium use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0340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Hypotension, bolus hel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0360" indent="-3290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13-Dec 6 (ICU then Acute Medicine Uni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T ECT’s times 9, 50% energy do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low improvement in alertness, rigidity, spe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remor and “rabbit” jaw movements g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miling, recognizing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eeding tube but eating s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Transferred to Provincial Institution from STAT on Dec 10 for further treatmen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1000" indent="-23436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tonia: DSM-IV criter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3840" y="1571400"/>
            <a:ext cx="87267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Motor immobility as evidenced by </a:t>
            </a: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catalepsy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 (including waxy flexibility) or stupo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Excessive motor activity (purposeless, not influenced by external stimuli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Extreme negativism (motiveless resistance to all instructions or maintenance of a rigid posture against attempts to be moved) or Mutis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Peculiarities of voluntary movement as evidenced by posturing, stereotyped movements, prominent mannerisms, or prominent grimac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Echolalia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CA" sz="19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Echopraxia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t least 2 of the above features 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ue to mental (eg: Schizophrenia or Mood Disorders) or medical disord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oes not occur exclusively during the course of a Deliriu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*Gegenhalten, Mitgehen, Automatic Obedience, Ambitendenc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nk Catatonia Scale (1996): www.ukppg.org.uk/catatonia.htm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Postu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pontaneous maintenance of posture (s), including mundane (e.g. sitting or standing for long periods without reacting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imb post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sychic pill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t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428840"/>
            <a:ext cx="854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ig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aintenance of a rigid position despite efforts to be moved, exclude if cog-wheeling or tremor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egativ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pparently motiveless resistance to instructions or attempts to move/examine patients. Contrary behaviour, does exact opposite of instr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axy Flex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uring reposturing of patient, patient offers initial resistance before allowing himself to be repositioned, similar to that of a bending cand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arning 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review symptoms and signs of catatonia including lethal catatonia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know the overlap between catatonia and neuroleptic malignant syndrome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understand the role of ECT in both catatonia and neuroleptic malignant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Gegenhalt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Arial"/>
              </a:rPr>
              <a:t>Continuous involuntary sustained muscle contraction When an affected muscle is passively stretched, the degree of resistance remains constant regardless of the rate at which the muscle is stretch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Mitge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"Anglepoise lamp" arm raising in response to light pressure of finger, despite instructions to the contra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:  Phenomenology-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428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mbitende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tient appears "motorically stuck" in indecisive, hesitant move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utomatic Obedi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Exaggerated cooperation with examiner's request or spontaneous continuation of movement request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Lethal Catatonia (Kahlbaum 1874)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ann et al., Amer. J. Psych. 1986; 143:11, p. 1374-81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assic description (Pre-neuroleptic era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nse motor excitement followed by hyperthermia and exhaustion or stup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ten prodromal phase of insomnia, anorexia, labile m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demontrate catatonic signs, and be delirious-like (disorganized thinking, psychosis, destructiv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have rigidity, or flaccidity, in terminal st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ce of acrocyanosis in s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tal in 75-10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thal Cataton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t-neuroleptic er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por may be predominant pres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tipsychotics, benzo’s, etc. can decrease excit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10% inpatient psych. admissi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tal in 60%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euroleptic Malignant Syndrome:  DSM-IV criter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560" y="2017440"/>
            <a:ext cx="8839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evere rigidity and elevated temperature associated with the use of neuroleptic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of the following:  diaphoresis, dysphagia, tremor, incontinence, change LOC, mutism, tachycardia, elevated or labile BP, elevated WBC or CPK (may also observe myoclon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due to another substance,  or neurological disorder, or other general medical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better accounted for by a mental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and Medications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218960" y="25142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ipsychotic med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thdrawal of L-Dopa or dopamine agon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hlorperazine (Stemeti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oclopramide (Maxera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trabenanzine (Nitoma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risk facto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haustion and Dehyd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itation, Stress, Psych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er potency, rapid titration, multiple I.M.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vironmental heat a facto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vious history (trait vulnerability?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7% hx. of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0% will develop NMS again upon re-challe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ea0b0"/>
                </a:solidFill>
                <a:latin typeface="Franklin Gothic Book"/>
              </a:rPr>
              <a:t>NMS: Pathogenic Mechanism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Figure 1. Simplified Pathophysiology of Neuroleptic Malignant Syndrome (NMS), and Elements of Sympathoadrenal Dysreg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Arial"/>
              </a:rPr>
              <a:t>From:  Strawn J. Neuroleptic Malignant Syndrome (review).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Am J Psychiatry 164:870-876, Jun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-23760" y="622440"/>
            <a:ext cx="91868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0" y="-76320"/>
          <a:ext cx="9144000" cy="7012080"/>
        </p:xfrm>
        <a:graphic>
          <a:graphicData uri="http://schemas.openxmlformats.org/drawingml/2006/table">
            <a:tbl>
              <a:tblPr/>
              <a:tblGrid>
                <a:gridCol w="216000"/>
                <a:gridCol w="2285640"/>
                <a:gridCol w="300240"/>
                <a:gridCol w="428400"/>
                <a:gridCol w="511200"/>
                <a:gridCol w="749520"/>
                <a:gridCol w="747720"/>
                <a:gridCol w="747720"/>
                <a:gridCol w="672840"/>
                <a:gridCol w="1557360"/>
                <a:gridCol w="92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chdev NMS Scale (2005): total=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id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phag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ing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ycar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phore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ntin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ypn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ed LO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erty of spee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reifo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t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 level (U/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ocyt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285920" y="2143080"/>
          <a:ext cx="6095880" cy="3143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K level (U/L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 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0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–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1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 if i.m. injection in previous 24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–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2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if i.m. injection in previous 24 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–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3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 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“4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Sachdev NMS Rating Scale:</a:t>
            </a:r>
            <a:br>
              <a:rPr sz="4600"/>
            </a:b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 CK Levels (Psych Res. 2005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1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76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68 y.o. Italian independent woman, some command of English, on Thioridazine (Mellaril) for 49 years, since last institutional admiss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History of Psychosis, postpartu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 family psychiatric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Brief hosp. In 1990’s at SVH after Thioridazine briefly D/C’d...hysterectom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Widow in 2002, lives alone in house, Gr. 5 education, restaurant worker, supportive 2 sons,1 dtr., brother and sis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Cour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.2% of pati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% develop within 24 hrs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6% develop within 1 week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tually all by 1 month of expo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3% recover within 1 week of eli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tually all recover by 1 month of eli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uld wait 2 weeks at least after recovery before re-challenge with antipsycho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-20% mortality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w have persistent catatonic and/or parkinsonian sta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aroff, S. J. Clin. Psychopharm.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Treatment: Inform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2438280"/>
            <a:ext cx="8915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uroleptic Malignant Syndrome Information Service (NMSIS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4 hr. Hotline for professionals: 1-888-667-836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www.nmsis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rmation: 1-888-776-674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-profit clinical and research group—Drs. Caroff, Mann, Campbell (U. Pen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: Catatonic and Non-Catatonic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Lee JW, Aust NZ J. of Psych. 2000; 34(5): 877-8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ecedent Catatonia may predispose to catatonic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catatonic NMS more likely preceded by severe EPS and deliriu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 and Catatonia: Similariti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142884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ance of catatonic symptoms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earance of rigidity and hyperthermia in (lethal)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with Lorazepam in NM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rancis A. CNS Spectrum 2000)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 Catatonia can impro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effective in bo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292 Lethal Catatonia patients from 196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ann S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m J Psychiatry 1986; 143:1374-1381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able to distinguish from NMS in 22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NMS and Catatonia: Difference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07136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eme (lead pipe) rigidity uncommon in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reotypic signs of catatonia unusual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citement then hyperthermia pre-neuroleptic in lethal catatonia; rigidity then hyperthermia post-neuroleptic in N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tentially effective treatments for NMS (dopamine agonists, dantrolene) less proven in catat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milar Conditions:  DDx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gnant Hyperther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holinergic Deli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c Deli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tonin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usable alcohol or drug withdrawal (eg: delirium tremens) and intoxication (eg: Ecstas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s epilepticus and other CNS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ic Conditions: infection, hyperthyroidism, pheochromocytoma, adrenal cortical abnormalities, other causes of rhabdomyolysis (eg: collap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In the modern era, the most likely psychiatric cause for catatonia is Bipolar Disorder, esp. Ma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ore likely when severe m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Kahlbaum, Bleuler, Kraepelin all noted mood disturbance preceding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Taylor MA, Am J Psych 200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Prevalence of Catatonia and Man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500200" y="1500120"/>
            <a:ext cx="4143600" cy="4357800"/>
          </a:xfrm>
          <a:prstGeom prst="rect">
            <a:avLst/>
          </a:prstGeom>
          <a:ln w="0">
            <a:noFill/>
          </a:ln>
        </p:spPr>
      </p:pic>
      <p:sp>
        <p:nvSpPr>
          <p:cNvPr id="338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Taylor MA, Am J. Psych 200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Pathogenic Mechanisms: Catatonia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urochemical substra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2 antagonists can worsen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A-B, 5-HT1A agonists promote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A-A, 5-HT2A, NMDA agonists reduce catato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. Northoff (2000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bbsonline.org/documents/a/00/00/22/44/bbs00002244-00/bbs.northoff.h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4 page pa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 Down Modulation”: subcortical and cortical circuits reciprocally conn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GABA-mediated, rather than D2 medi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http://www.bbsonline.org/documents/a/00/00/22/44/bbs00002244-00/figure2.jpg"/>
          <p:cNvPicPr/>
          <p:nvPr/>
        </p:nvPicPr>
        <p:blipFill>
          <a:blip r:embed="rId1"/>
          <a:stretch/>
        </p:blipFill>
        <p:spPr>
          <a:xfrm>
            <a:off x="642960" y="0"/>
            <a:ext cx="7858080" cy="650088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2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284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June 200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Loxapine 25 mg bid after stop Mellaril in May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Labile, energetic, little sleep, racing thou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melling bad odours in h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ranoid, carrying knife, throwing items in frust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onfused” , disorganized, suicid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VGH Inpt Unit via emergency (June 10-July 18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x: Bipolar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Olanzapine 15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zadone 100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lonazepam 0.25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74707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Modulation in Catatoni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44" name="Picture 2" descr="http://www.bbsonline.org/documents/a/00/00/22/44/bbs00002244-00/figure4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www.bbsonline.org/documents/a/00/00/22/44/bbs00002244-00/figure3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51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Franklin Gothic Book"/>
              </a:rPr>
              <a:t>The Frontal Lobes and its Connection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From: Northoff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571920" y="2143080"/>
            <a:ext cx="2143080" cy="357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1214280" y="4143240"/>
            <a:ext cx="1714680" cy="21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7572240" y="5786280"/>
            <a:ext cx="1428840" cy="21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100" spc="-1" strike="noStrike">
                <a:solidFill>
                  <a:srgbClr val="ffffff"/>
                </a:solidFill>
                <a:latin typeface="Franklin Gothic Book"/>
              </a:rPr>
              <a:t>Catatonia and PD: Differenc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14200" y="2357280"/>
          <a:ext cx="8929800" cy="4173840"/>
        </p:xfrm>
        <a:graphic>
          <a:graphicData uri="http://schemas.openxmlformats.org/drawingml/2006/table">
            <a:tbl>
              <a:tblPr/>
              <a:tblGrid>
                <a:gridCol w="1636920"/>
                <a:gridCol w="3483000"/>
                <a:gridCol w="3809880"/>
              </a:tblGrid>
              <a:tr h="162648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orazepam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a-ergic mediated neuronal inhibition in medial orbitofrontal corte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odulation of functional and behavioral inhib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916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D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Amantad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wn-regulation of glutamatergic-mediated overexcitation in prefrontal and orbitofrontal-parietal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wn-regulation of glutamatergic-mediated overexcitation in subcortical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8200"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p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p-down modulation of striatal D-2 receptors predisposing for neuroleptic-induced catato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Compensation for striatal D-2 receptor deficit with "normalization" of "bottom-up mod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2000160" y="1285920"/>
          <a:ext cx="6096240" cy="557280"/>
        </p:xfrm>
        <a:graphic>
          <a:graphicData uri="http://schemas.openxmlformats.org/drawingml/2006/table">
            <a:tbl>
              <a:tblPr/>
              <a:tblGrid>
                <a:gridCol w="2911680"/>
                <a:gridCol w="3184560"/>
              </a:tblGrid>
              <a:tr h="557280">
                <a:tc>
                  <a:txBody>
                    <a:bodyPr lIns="34560" rIns="3456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Cataton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560" rIns="3456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arkins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atatonia Treatment: Review of Lit.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Hawkins et al., Int. J. Psych. Med. 1995; 25(4): 345-69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=178, 1985-1994 published c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nzo’s effective in 70% (Lorazepa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effective in 85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tipsychotics effective in 7.5%, or may even worsen symptoms (neuroleptic-induced catatoni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atonia: 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le out medical cond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razepam 1-12mg/day, up to 72hrs. T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ic GABA-A agon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trolene to be considered if rigid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T is treatment of cho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consider mECT if recur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ypical Antipsychotic? (not for lethal catatoni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antadin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antin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Treatment: Biological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ontinue Antipsychotic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ive Medical Treat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ld to Moderate NM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mocryptine 2.5-5 mg q8h (up to 30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antadine 100mg q8h (to 200-400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use Benzo (eg: Lorazepam 1-8 mg/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rate to Severe NM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ntrolene IV 1-2.5mg/kg (1mg/kg q6h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T (bilateral, may even be daily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NMS and ECT: Review of Lit.</a:t>
            </a:r>
            <a:br>
              <a:rPr sz="4100"/>
            </a:b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Trollor and Sachdev, Aust.NZ J. of Psych 1999; 33:650-59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2209680"/>
            <a:ext cx="9144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 published cases from 1966, and 9 new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tonia manifested in 76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3% complete and 28% partial recovery with 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of ECT response average 4 treatments, generally by 6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cases of cardio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he use of succinylcholine unless familial malignant hyperthermia—only one case of hyperkalemia following ECT for N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MS and ECT: Potential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243828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ollor and Sachdev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re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al between NMS and catatonia uncert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sychotic depression is the underlying disor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tatonia predominates in N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5086440" cy="3495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tatonia Treatment Algorithm</a:t>
            </a:r>
            <a:br>
              <a:rPr sz="4600"/>
            </a:br>
            <a:r>
              <a:rPr b="1" lang="en-CA" sz="2800" spc="-1" strike="noStrike">
                <a:solidFill>
                  <a:srgbClr val="ffffff"/>
                </a:solidFill>
                <a:latin typeface="Franklin Gothic Book"/>
              </a:rPr>
              <a:t>Filip Van Den Eede et al. European Psychiatry 2005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1356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n be difficult to differentiate NMS and catatonia in practice, and definitive treatments are simi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antipsychotics with less dopamine blockade is probably less likely to produce NMS and less likely to be severe, according to the dopaminergic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NMS and catatonia can be safely and effectively treated with ECT, providing precautions are consi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3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hort-term Assessment and Treatment (STAT) Geriatric In Unit (Aug 23, 2007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ad been seen at STAT Day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ncontinent with urinary re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witched from Olanzapine to CPZ 250 mg/d by community psy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Dependent on IADL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3MS=72/100; FMMSE=24/2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4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TAT In-Unit (Aug 23-Sept 1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Mood labile, insom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lternates between singing at night and weeping in daytime, playing ope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ome pressure of spe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x: Bipolar, mixed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pival 750 mg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Quetiapine 100 mg q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5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28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ept 15-28, 2007: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ypomanic in Day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ncreased hom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ompliant with Epival (level=498) , mixing up blister packed med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on called emergency mental health services on Sept 25: threaten him with a knife “leave me alone”, crying continually, plays loud opera music in the phone, looking for a new partner, hostile and throwing things, isolate from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Quetiapine up to 175 mg/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6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2848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VGH Psych Emerg. and STAT (Sept 28-Nov 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oquel increased to 350 mg/d, multiple IM doses  in Psych Emerg.  Seclusion roo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Oct 3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Mood lab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emanded to see her husband, anniversary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ad...join husband, tearful, tangential, speak lo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hysically aggre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Grandiose “I’m God. Don’t touch me...kill you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Sleeping 2 h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3MS=49/100; FMMSE=18/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lonazepam 2 mg/d, Seroquel, Epival (level = 5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ffffff"/>
                </a:solidFill>
                <a:latin typeface="Franklin Gothic Book"/>
              </a:rPr>
              <a:t>Case Presentation-7: Ms.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Oct 31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eel dizzy, speech different, tremor, headac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CPK=37, WBC=8000, Valproic level=66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Nov 2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3 hrs/nt sleep past 2 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aranoid, hypervigil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Fine resting tremor (no cogwheelin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Nothing inside”, Perseverate: “blood, blood, bloo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Resistance to food, labile m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0:28:37Z</dcterms:created>
  <dc:creator>Peter Chan</dc:creator>
  <dc:description/>
  <dc:language>en-US</dc:language>
  <cp:lastModifiedBy>Peter</cp:lastModifiedBy>
  <dcterms:modified xsi:type="dcterms:W3CDTF">2009-10-26T21:16:37Z</dcterms:modified>
  <cp:revision>129</cp:revision>
  <dc:subject/>
  <dc:title>An Update on Catatonia and Neuroleptic Malignant Syndr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